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E980-BD16-4363-8766-FD22B2F66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work schedules of parents may prevent them from attending school meetings &amp;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time that meetings &amp; events are held may not be convenient fo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 parents may not have transportation or money to take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lack of childcare may preclude atten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parents may not have computers in the home or may not be computer savvy to use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  Our schools are very multicultural, Language and ethnic differences may impede communication. Cultural factors can be physical, social or psychological.  How many of you have heard of the book Men are from Mars, Women are from Venus? That speaks about the differences between men and women, gender differences may have an influence on communication.  Non verbal cues such as proximity how close you stand next to a person, or movement (facial expressions or hand/body gestures) may impact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Is the school welcoming to parents?  In your classroom, do you have a conference area that is physically pleasing and conducive to open communication?  Are you prepared for the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7B4D7-2AEF-4448-A3CC-9EB51B60F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BA875-EA95-467B-B2EB-88F7F947C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FF28B-A83F-478F-88F3-021912841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7E505-1E13-475C-A89B-5CD0AE10D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4759A-99AD-4C40-8FF8-74E56FC8E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9FB33-2E7F-430F-B687-0688E2883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E2406-D564-4F98-BA9C-09431594B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E3F3B-1F7B-459F-932D-9CAD853A3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1BE56-87FB-4B8A-8F58-8AFB0D671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A0476-9911-4FE9-BF87-B83498833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DF283-2120-4B16-AB5B-9656E0688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6C0D-4584-458C-B1FA-C2E7FE4D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2497-27CF-4DEB-A50F-A715CC4C4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6F191-1744-45BA-9A33-B63408EC0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FD2B7-D6EA-491B-AED1-6C7AF5A4E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2E074-0565-4701-B13E-D6100A4D2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4EE67-10A0-4815-88D9-3CC09F93A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F8EEC-8589-4461-AB26-F4DC0ABC5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94611-2343-4B96-ADC2-F017FC4F3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0F58E-9D7E-4513-B98C-954F3F8D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665A-A50A-473B-8AF8-2604337E2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174E-FAC0-412C-826E-08E3499D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D5D4C-E06D-4243-8F54-FBDF0F7BB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EDED-7854-4D39-9C85-D0556718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64E8-E331-4F15-B51E-09430157AE2B}"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FC61-0152-48EA-AA01-62885ACBA4A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llenges to Home-School Communication</a:t>
            </a:r>
            <a:endParaRPr b="0" lang="en-US" sz="32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gmatic</a:t>
            </a:r>
            <a:endParaRPr b="0" lang="en-US" sz="20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onomic-work schedules may prevent parents from attending meetings</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me-scheduled events may not be convenient for parents </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ation-parents may not have means to get to meeting</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gistics-lack of childcar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chnological-no computers at home to access online information</a:t>
            </a:r>
            <a:endParaRPr b="0" lang="en-US" sz="1600" spc="-1" strike="noStrike">
              <a:solidFill>
                <a:srgbClr val="000000"/>
              </a:solidFill>
              <a:latin typeface="Tahoma"/>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ltural</a:t>
            </a:r>
            <a:endParaRPr b="0" lang="en-US" sz="20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nguage differenc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thnic differenc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der difference</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n-verbal cues</a:t>
            </a:r>
            <a:endParaRPr b="0" lang="en-US" sz="1600" spc="-1" strike="noStrike">
              <a:solidFill>
                <a:srgbClr val="000000"/>
              </a:solidFill>
              <a:latin typeface="Tahoma"/>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itutional</a:t>
            </a:r>
            <a:endParaRPr b="0" lang="en-US" sz="20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hool climate-is the school welcoming to parents</a:t>
            </a:r>
            <a:endParaRPr b="0" lang="en-US" sz="1600" spc="-1" strike="noStrike">
              <a:solidFill>
                <a:srgbClr val="000000"/>
              </a:solidFill>
              <a:latin typeface="Tahoma"/>
            </a:endParaRPr>
          </a:p>
          <a:p>
            <a:pPr lvl="1" marL="727920" indent="-280080">
              <a:lnSpc>
                <a:spcPct val="90000"/>
              </a:lnSpc>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acher/Staff attitude- are teachers welcoming and prepared for parent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8 Tips for Communicating with a Person from a Different Culture </a:t>
            </a:r>
            <a:endParaRPr b="0" lang="en-US" sz="36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personal responsibility to make the communication effective</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rify the communication, seek feedback, ask questions</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ognize that some persons may not be comfortable discussing certain issues.  Try to empathize.</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oid being judgmental.  Respect differences and accept the person as an individual.</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serve verbal and non verbal behaviors</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y attention to personal space</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ware of different uses of eye contact.  Indirect eye contact is the norm in many cultures, especially in male-female communications</a:t>
            </a:r>
            <a:endParaRPr b="0" lang="en-US" sz="1800" spc="-1" strike="noStrike">
              <a:solidFill>
                <a:srgbClr val="000000"/>
              </a:solidFill>
              <a:latin typeface="Tahoma"/>
            </a:endParaRPr>
          </a:p>
          <a:p>
            <a:pPr marL="603360" indent="-60336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person is  non-English speaking, try to learn the language and/or use an interpreter</a:t>
            </a:r>
            <a:endParaRPr b="0" lang="en-US" sz="1800" spc="-1" strike="noStrike">
              <a:solidFill>
                <a:srgbClr val="000000"/>
              </a:solidFill>
              <a:latin typeface="Tahoma"/>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Strategies to Overcome Home-School Communication Challenges</a:t>
            </a:r>
            <a:br>
              <a:rPr sz="3200"/>
            </a:br>
            <a:endParaRPr b="0" lang="en-US" sz="32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fontScale="92000"/>
          </a:bodyPr>
          <a:p>
            <a:pPr marL="490680" indent="-4906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allenges</a:t>
            </a:r>
            <a:endParaRPr b="0" lang="en-US" sz="2400" spc="-1" strike="noStrike">
              <a:solidFill>
                <a:srgbClr val="000000"/>
              </a:solidFill>
              <a:latin typeface="Tahoma"/>
            </a:endParaRPr>
          </a:p>
          <a:p>
            <a:pPr marL="490680" indent="-490680">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 differences</a:t>
            </a: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490680">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limitations of teachers &amp; parents</a:t>
            </a: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0680" indent="-490680">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ceptions of teachers &amp; parents</a:t>
            </a:r>
            <a:r>
              <a:rPr b="0" lang="en-US" sz="2000" spc="-1" strike="noStrike">
                <a:solidFill>
                  <a:srgbClr val="000000"/>
                </a:solidFill>
                <a:latin typeface="Tahoma"/>
              </a:rPr>
              <a:t>	</a:t>
            </a:r>
            <a:endParaRPr b="0" lang="en-US" sz="2000" spc="-1" strike="noStrike">
              <a:solidFill>
                <a:srgbClr val="000000"/>
              </a:solidFill>
              <a:latin typeface="Tahoma"/>
            </a:endParaRPr>
          </a:p>
          <a:p>
            <a:pPr marL="490680" indent="-4906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cher preparation &amp; lack of knowledg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11" name="PlaceHolder 3"/>
          <p:cNvSpPr>
            <a:spLocks noGrp="1"/>
          </p:cNvSpPr>
          <p:nvPr>
            <p:ph/>
          </p:nvPr>
        </p:nvSpPr>
        <p:spPr>
          <a:xfrm>
            <a:off x="5140440" y="2017800"/>
            <a:ext cx="3814560" cy="4114800"/>
          </a:xfrm>
          <a:prstGeom prst="rect">
            <a:avLst/>
          </a:prstGeom>
          <a:noFill/>
          <a:ln w="0">
            <a:noFill/>
          </a:ln>
        </p:spPr>
        <p:txBody>
          <a:bodyPr lIns="90000" rIns="90000" tIns="46800" bIns="46800" anchor="t">
            <a:normAutofit fontScale="93000"/>
          </a:bodyPr>
          <a:p>
            <a:pPr marL="496080" indent="-496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r>
              <a:rPr b="0" lang="en-US" sz="2400" spc="-1" strike="noStrike">
                <a:solidFill>
                  <a:srgbClr val="000000"/>
                </a:solidFill>
                <a:latin typeface="Tahoma"/>
              </a:rPr>
              <a:t>	</a:t>
            </a:r>
            <a:endParaRPr b="0" lang="en-US" sz="24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a:t>
            </a:r>
            <a:r>
              <a:rPr b="0" lang="en-US" sz="2000" spc="-1" strike="noStrike">
                <a:solidFill>
                  <a:srgbClr val="000000"/>
                </a:solidFill>
                <a:latin typeface="Tahoma"/>
              </a:rPr>
              <a:t>	</a:t>
            </a:r>
            <a:r>
              <a:rPr b="0" lang="en-US" sz="2000" spc="-1" strike="noStrike">
                <a:solidFill>
                  <a:srgbClr val="000000"/>
                </a:solidFill>
                <a:latin typeface="Tahoma"/>
              </a:rPr>
              <a:t>Use of interpreters</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B</a:t>
            </a:r>
            <a:r>
              <a:rPr b="0" lang="en-US" sz="2000" spc="-1" strike="noStrike">
                <a:solidFill>
                  <a:srgbClr val="000000"/>
                </a:solidFill>
                <a:latin typeface="Tahoma"/>
              </a:rPr>
              <a:t>	</a:t>
            </a:r>
            <a:r>
              <a:rPr b="0" lang="en-US" sz="2000" spc="-1" strike="noStrike">
                <a:solidFill>
                  <a:srgbClr val="000000"/>
                </a:solidFill>
                <a:latin typeface="Tahoma"/>
              </a:rPr>
              <a:t>Correspond in the language of families</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  Establish a schedule</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B  Establish mutually agreed upon times &amp; venues</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  “Seek first to understand”</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  Pre-service training</a:t>
            </a:r>
            <a:endParaRPr b="0" lang="en-US" sz="2000" spc="-1" strike="noStrike">
              <a:solidFill>
                <a:srgbClr val="000000"/>
              </a:solidFill>
              <a:latin typeface="Tahoma"/>
            </a:endParaRPr>
          </a:p>
          <a:p>
            <a:pPr marL="49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B  Professional develop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4:44:01Z</dcterms:created>
  <dc:creator>pgcps</dc:creator>
  <dc:description/>
  <dc:language>en-US</dc:language>
  <cp:lastModifiedBy>pgcps</cp:lastModifiedBy>
  <dcterms:modified xsi:type="dcterms:W3CDTF">2009-03-26T14:57:20Z</dcterms:modified>
  <cp:revision>2</cp:revision>
  <dc:subject/>
  <dc:title>Challenges to Home-School Communication</dc:title>
</cp:coreProperties>
</file>